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CBD-3FE8-4A47-9FC6-56049B76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F51-4F90-41A1-9FEB-5C8E4B1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5FB-5108-4A61-9620-ACBD6282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798-57F4-445D-9C84-94361CCD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9897-7A0E-497A-B360-F9129604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375-EFF5-42F8-AC8B-D4D08D6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6FB-38F1-4605-95D2-6C050BF4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D4C0-C22A-4097-BF1B-B7A81D6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4BC5-B399-4768-859C-1538742F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D125-101D-42A7-8B27-4D4A7B77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CCDB-70AF-42EB-BEDD-FE0BB17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9B0-571C-441C-884C-2E2291C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2759-9952-4D51-B599-F805D3A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B69-05BC-4262-957D-A3AE77F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82D-1ACE-4953-B426-EAF96228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D63C-2132-4CFA-ADC7-83330B2F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2388-8B90-490A-A3F8-8D8D4ECF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6CE5-C7BB-4055-AF34-72917C6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ED7D-BC0E-48E0-AB88-3191306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DA6C-33B1-4FDF-AA4E-AB0FEAB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77D7-7EC3-476F-8740-A7A875D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95BA-120E-419C-AE2B-FDB0CE6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CD7-B1B6-4B46-8665-3475723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A22A-09E8-4263-94E3-DD68327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3705-4240-4021-9801-2FCB89A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FA63-A742-47B1-86A0-D46EE5F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CDF8-9945-45B5-AB14-B8CD86E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2C73-82FD-435C-931C-2DB7BCCF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65B8-AAE6-467D-96BA-2177760A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4046-6D16-4C8B-BFC3-39C2A187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5D00-7571-4C49-BAC5-4F3F31E3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48BD-9552-48EA-9DCB-6B69DFF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20B7-3EB8-4FF9-8142-CF817AB4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094-96AE-4212-B011-D099B12F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D091-0F78-421C-A340-01C9808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CC36-F64D-481A-A5D7-35993AC3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4F89-D436-4792-AF77-32750A1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94CE-C634-495F-814F-E714BF7E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ADE7-1BBD-4C68-BB2C-EF20BCC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1B4C-5BE6-4C44-9584-494DC62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B1E5-F8A5-4CD4-88C4-11866D8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1EA7-2AD0-4AA7-A04A-4FCE3C33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50A8-509E-4056-BFC3-6C2D14E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412D-AEAD-4319-BFCD-73508A95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EC1-4770-4DF9-87DD-80119D23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8777-361A-44DE-AFF4-45294296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A5BD-5F2A-47C9-B264-BF8124D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814A-4ED3-4827-9820-22B5D0C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2994-D3B9-4888-A881-C8F0EF4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20D4-BCD0-4401-87B0-554B1186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834A-DB8C-4832-B904-B9B0E9F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6D33-144C-4C20-9F50-C83E7AA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1F41-4A4A-4B39-A18F-6BC63DD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2472-1D1D-4C01-AEC5-7168F614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D084-1E2F-4DC4-91B6-0DC6C0F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E49-9947-4F07-AD40-3A8BD6A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4470-0D79-473E-A4E9-268AB36F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1A1E-57A2-4A04-A51B-12343FA3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398F-FB67-4D4B-B3FE-8300383A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1A0B-62D8-4013-9819-8E6BE7B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682E9-C3DD-4750-8299-CC67EF9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3528-EB57-4E57-BA2C-085820E8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104F-8F62-4EDA-86D8-755CB731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30C0-E544-49AC-9265-2AB5D4F5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4C21-ACBC-410A-91EB-2232A4B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822D-286F-4C7A-81B8-7107D0A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FC1-8A08-40F8-AE04-6804D22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ACD84-CA39-4C66-BD74-161A7F4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8C0E5-E3DE-4C8A-B92E-2091AF58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27D4-4C29-4EDB-A8C7-00BB5DB1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A5C4-BBCE-420B-835D-7EE53772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EC70-DA20-40F0-B346-ECDA64C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65597-BD55-46A4-B556-CADE7F2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F5C1-1480-4185-8282-4D69446A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EEF4-70A2-4BFC-94CC-C1904B17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A5B3-FACD-4800-AC85-3534A89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2496-B815-4F53-883E-D685A0C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A10-85A7-4189-A02F-4B84CA9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CCAAF-E20A-4833-9388-D39D976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A918-D510-4033-8A27-10ADED7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56C56-F657-448C-B189-8C90A5F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4F7B8-1A32-4C27-B65B-855FA0A1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5D00-3CB4-4F90-B6B0-D5C8D07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F9B-BD5F-4035-A3CB-56A42A5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C64-A062-4CF4-8F15-D2158F110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8A41-135D-44EE-A601-CD731F482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5732-6086-4815-A8D8-82C812702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EF6-5DAD-4443-B3BE-0B0E4C565D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E61-4A24-4938-AFA6-38644ABED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C70-4E1D-4DCA-AF83-77CDAD99D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597-984C-4EB7-89B5-CA5AF0088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5645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effects of the Great Depression on the American people in the 1930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http://www.autolife.umd.umich.edu/Design/Gartman/D_Casestudy/ID74271_2_depression_apples.gif"/>
          <p:cNvPicPr/>
          <p:nvPr/>
        </p:nvPicPr>
        <p:blipFill>
          <a:blip r:embed="rId2"/>
          <a:stretch/>
        </p:blipFill>
        <p:spPr>
          <a:xfrm>
            <a:off x="2133720" y="657360"/>
            <a:ext cx="5008320" cy="40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http://1.bp.blogspot.com/_t85Xg4Dg49I/SOJ1bJeMzNI/AAAAAAAAA8k/dhpeDyAiv5Q/s400/Headline%20Crash1.jpg"/>
          <p:cNvPicPr/>
          <p:nvPr/>
        </p:nvPicPr>
        <p:blipFill>
          <a:blip r:embed="rId3"/>
          <a:stretch/>
        </p:blipFill>
        <p:spPr>
          <a:xfrm rot="20909400">
            <a:off x="163440" y="2127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http://www.historicalnews.com/ebay/2012-11-28/Nov2012X28SA19393.jpg"/>
          <p:cNvPicPr/>
          <p:nvPr/>
        </p:nvPicPr>
        <p:blipFill>
          <a:blip r:embed="rId4"/>
          <a:stretch/>
        </p:blipFill>
        <p:spPr>
          <a:xfrm rot="851400">
            <a:off x="6013440" y="6480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www.csa.com/discoveryguides/refugee/images/dustbowl.gif"/>
          <p:cNvPicPr/>
          <p:nvPr/>
        </p:nvPicPr>
        <p:blipFill>
          <a:blip r:embed="rId1"/>
          <a:stretch/>
        </p:blipFill>
        <p:spPr>
          <a:xfrm>
            <a:off x="609480" y="685800"/>
            <a:ext cx="7994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weru.ksu.edu/new_weru/multimedia/dustbowl/big/theb1365.jpg"/>
          <p:cNvPicPr/>
          <p:nvPr/>
        </p:nvPicPr>
        <p:blipFill>
          <a:blip r:embed="rId1"/>
          <a:stretch/>
        </p:blipFill>
        <p:spPr>
          <a:xfrm>
            <a:off x="152280" y="457200"/>
            <a:ext cx="885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1.bp.blogspot.com/_pZO0lOEj1oo/Spwsw6AXWpI/AAAAAAAACcg/bgahCrFLN4k/s400/dust+bowl.jpg"/>
          <p:cNvPicPr/>
          <p:nvPr/>
        </p:nvPicPr>
        <p:blipFill>
          <a:blip r:embed="rId1"/>
          <a:stretch/>
        </p:blipFill>
        <p:spPr>
          <a:xfrm>
            <a:off x="111240" y="533520"/>
            <a:ext cx="888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upload.wikimedia.org/wikipedia/commons/5/5f/Dust_Bowl_Oklahoma.jpg"/>
          <p:cNvPicPr/>
          <p:nvPr/>
        </p:nvPicPr>
        <p:blipFill>
          <a:blip r:embed="rId1"/>
          <a:stretch/>
        </p:blipFill>
        <p:spPr>
          <a:xfrm>
            <a:off x="1447920" y="76320"/>
            <a:ext cx="639288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774800"/>
            <a:ext cx="3886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hotographed migrant families during the Depress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9" name="Picture 2" descr="http://www.lightmediation.net/blog/wp-content/myfotos/lange/00000059082.jpg"/>
          <p:cNvPicPr/>
          <p:nvPr/>
        </p:nvPicPr>
        <p:blipFill>
          <a:blip r:embed="rId2"/>
          <a:stretch/>
        </p:blipFill>
        <p:spPr>
          <a:xfrm>
            <a:off x="4172040" y="1523880"/>
            <a:ext cx="481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ile:Lange-MigrantMother02.jpg"/>
          <p:cNvPicPr/>
          <p:nvPr/>
        </p:nvPicPr>
        <p:blipFill>
          <a:blip r:embed="rId1"/>
          <a:stretch/>
        </p:blipFill>
        <p:spPr>
          <a:xfrm>
            <a:off x="1981080" y="76320"/>
            <a:ext cx="5153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2.bp.blogspot.com/-1wtUfz7uEwQ/TkRgyzEnGlI/AAAAAAAAAFs/PBUWP20-wg8/s1600/great-depression+homeless+4.jpg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://media-cache-ec0.pinimg.com/736x/93/df/32/93df32cd6185b36fac8ed35f5ca756da.jpg"/>
          <p:cNvPicPr/>
          <p:nvPr/>
        </p:nvPicPr>
        <p:blipFill>
          <a:blip r:embed="rId1"/>
          <a:stretch/>
        </p:blipFill>
        <p:spPr>
          <a:xfrm>
            <a:off x="1371600" y="46080"/>
            <a:ext cx="65912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4.bp.blogspot.com/-dljX2q-bGg0/TtYvvOm_bHI/AAAAAAAAO8A/JMlmDLtGANI/s640/dorothea+lange+depression+era+photographs+21.jpg"/>
          <p:cNvPicPr/>
          <p:nvPr/>
        </p:nvPicPr>
        <p:blipFill>
          <a:blip r:embed="rId1"/>
          <a:stretch/>
        </p:blipFill>
        <p:spPr>
          <a:xfrm>
            <a:off x="1371600" y="122400"/>
            <a:ext cx="64263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152640" y="1447560"/>
            <a:ext cx="4576680" cy="540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siness Failures: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1929-32--85,000 closed their doors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er capita income (a year)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68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49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ekly income of a typical worker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4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16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6" name="Picture 5" descr="http://img.bhs4.com/60/c/60c53b028a93dbc3ef6c39cbae0021fc3d40d0f6_large.jpg"/>
          <p:cNvPicPr/>
          <p:nvPr/>
        </p:nvPicPr>
        <p:blipFill>
          <a:blip r:embed="rId2"/>
          <a:stretch/>
        </p:blipFill>
        <p:spPr>
          <a:xfrm>
            <a:off x="4419720" y="17524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47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Unemployment reached 25%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ousands of men left home looking for wor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Picture 5" descr="http://www.doctorhousingbubble.com/wp-content/uploads/2008/05/gdunemployment.gif"/>
          <p:cNvPicPr/>
          <p:nvPr/>
        </p:nvPicPr>
        <p:blipFill>
          <a:blip r:embed="rId2"/>
          <a:stretch/>
        </p:blipFill>
        <p:spPr>
          <a:xfrm>
            <a:off x="388800" y="2654280"/>
            <a:ext cx="8374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-76320" y="1447920"/>
            <a:ext cx="40687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st bank closures occurred in agricultural areas because farmers experienced such poor condition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550 banks went out of business from July 1, 1928, to June 30, 192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m 1929-32 - 9,000 fai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,000,000 accounts wiped out fore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9" name="Picture 6" descr="http://www.doctorhousingbubble.com/wp-content/uploads/2008/07/american_union_bank.gif"/>
          <p:cNvPicPr/>
          <p:nvPr/>
        </p:nvPicPr>
        <p:blipFill>
          <a:blip r:embed="rId2"/>
          <a:stretch/>
        </p:blipFill>
        <p:spPr>
          <a:xfrm>
            <a:off x="3962520" y="1887480"/>
            <a:ext cx="51354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://www.wfu.edu/history/StudentWork/whistory/timeline/namerica/unemployed.jpg"/>
          <p:cNvPicPr/>
          <p:nvPr/>
        </p:nvPicPr>
        <p:blipFill>
          <a:blip r:embed="rId1"/>
          <a:stretch/>
        </p:blipFill>
        <p:spPr>
          <a:xfrm>
            <a:off x="142920" y="304920"/>
            <a:ext cx="88488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1960" y="1733040"/>
            <a:ext cx="3406680" cy="520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Widespread hunger took over the countr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read lines are created where people can get hand-outs of fo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3" name="Picture 5" descr="http://2.bp.blogspot.com/-wljlwtZTTFU/UFuqDVmMvQI/AAAAAAAAc9M/8Ntvtx3cG2M/s1600/hunger+america.png"/>
          <p:cNvPicPr/>
          <p:nvPr/>
        </p:nvPicPr>
        <p:blipFill>
          <a:blip r:embed="rId2"/>
          <a:stretch/>
        </p:blipFill>
        <p:spPr>
          <a:xfrm>
            <a:off x="3352680" y="1790640"/>
            <a:ext cx="5686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2.bp.blogspot.com/_xRraVcfa3GM/SZRG-Kp7e2I/AAAAAAAABxk/Yx1rlaZDSvU/s400/2008-07-15_4_GreatDepression-Blacks-SoupLine.jpg"/>
          <p:cNvPicPr/>
          <p:nvPr/>
        </p:nvPicPr>
        <p:blipFill>
          <a:blip r:embed="rId1"/>
          <a:stretch/>
        </p:blipFill>
        <p:spPr>
          <a:xfrm>
            <a:off x="228600" y="152280"/>
            <a:ext cx="86947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upload.wikimedia.org/wikipedia/commons/thumb/e/e3/US_Unemployment_1890-2011.gif/383px-US_Unemployment_1890-2011.gif"/>
          <p:cNvPicPr/>
          <p:nvPr/>
        </p:nvPicPr>
        <p:blipFill>
          <a:blip r:embed="rId1"/>
          <a:stretch/>
        </p:blipFill>
        <p:spPr>
          <a:xfrm>
            <a:off x="90360" y="1143000"/>
            <a:ext cx="8901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epression-unemployment"/>
          <p:cNvPicPr/>
          <p:nvPr/>
        </p:nvPicPr>
        <p:blipFill>
          <a:blip r:embed="rId1"/>
          <a:stretch/>
        </p:blipFill>
        <p:spPr>
          <a:xfrm>
            <a:off x="76320" y="76320"/>
            <a:ext cx="6319800" cy="5029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america20xy.com/blog6/wp-content/uploads/2011/06/2_great_depression.jpg"/>
          <p:cNvPicPr/>
          <p:nvPr/>
        </p:nvPicPr>
        <p:blipFill>
          <a:blip r:embed="rId2"/>
          <a:stretch/>
        </p:blipFill>
        <p:spPr>
          <a:xfrm>
            <a:off x="3794040" y="2819520"/>
            <a:ext cx="5197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13716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oughly one and a half million were left homeles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included families and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overvilles = makeshift houses that people made of whatever materials they could g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2362320" y="3452760"/>
            <a:ext cx="4419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://media-cache-ak0.pinimg.com/736x/1a/2e/03/1a2e033f47f61ae6e37d4236345e0955.jpg"/>
          <p:cNvPicPr/>
          <p:nvPr/>
        </p:nvPicPr>
        <p:blipFill>
          <a:blip r:embed="rId1"/>
          <a:stretch/>
        </p:blipFill>
        <p:spPr>
          <a:xfrm>
            <a:off x="152280" y="76320"/>
            <a:ext cx="88124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nuttyhistory.com/uploads/1/2/1/5/12150034/8974008_orig.jpg?1"/>
          <p:cNvPicPr/>
          <p:nvPr/>
        </p:nvPicPr>
        <p:blipFill>
          <a:blip r:embed="rId1"/>
          <a:stretch/>
        </p:blipFill>
        <p:spPr>
          <a:xfrm>
            <a:off x="76320" y="514440"/>
            <a:ext cx="90169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truthalyzer.com/wp-content/themes/tent-city1.jpg"/>
          <p:cNvPicPr/>
          <p:nvPr/>
        </p:nvPicPr>
        <p:blipFill>
          <a:blip r:embed="rId1"/>
          <a:stretch/>
        </p:blipFill>
        <p:spPr>
          <a:xfrm>
            <a:off x="52560" y="609480"/>
            <a:ext cx="890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-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st Bow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ffected the Great Plai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; Drought struc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ust st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ny moved west to California but remained homeless and po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ohn Steinbec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merican auth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ote about the troubles of farmers in his book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he Grapes of Wra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 rot="599400">
            <a:off x="5627160" y="1752120"/>
            <a:ext cx="30229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17:38Z</dcterms:created>
  <dc:creator>LATHOMPS</dc:creator>
  <dc:description/>
  <dc:language>en-US</dc:language>
  <cp:lastModifiedBy>Vickie J. Dean</cp:lastModifiedBy>
  <dcterms:modified xsi:type="dcterms:W3CDTF">2016-03-08T13:22:02Z</dcterms:modified>
  <cp:revision>8</cp:revision>
  <dc:subject/>
  <dc:title>Great Depression in America</dc:title>
</cp:coreProperties>
</file>